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87BDCE-BEDD-4E0D-A362-810CDA85003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A8885E-16CA-4CE2-8F28-254DC0DA4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7C1505-6A34-4D30-9D5D-A8B785999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5C6345-E508-4484-86BF-CE73C2EDDCA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43730E-F5DE-43B7-AB8A-E43A9F51D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963C5D-F120-47F0-9D53-B93BF18EC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1F79E0-E458-4A22-A0DD-102E47530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2018F2-E1C0-4F96-9BF9-AE4C8E46C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35BFE2-4C89-4B80-977D-019AC8082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ED21F4-AFA1-4F6D-BF7D-EF400B1BD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7AB77B-BDF4-4983-8FA7-7C6622C82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07FB76-F0D7-4CEB-BAB2-AF3DFA9BD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F0D56-B603-4051-9D6D-3D815A667717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2000" y="2205000"/>
            <a:ext cx="5545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第五章 </a:t>
            </a: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康复护理技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标题 1"/>
          <p:cNvSpPr/>
          <p:nvPr/>
        </p:nvSpPr>
        <p:spPr>
          <a:xfrm>
            <a:off x="971640" y="5445000"/>
            <a:ext cx="72738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第四节  吞咽训练      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舌的运动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被动运动：用吸舌器或纱布包住患者舌部，向前后、左右、上下各个方向行牵拉运动，有助于降低舌肌张力，每次牵拉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0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次，每日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~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次，直到能主动运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主动运动：指导患者舌前伸、后缩、侧方顶颊部、用舌舔上下唇、舔左右嘴角、卷舌，有利于提高舌的灵活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抗阻运动：用勺子或压舌板在患者舌上进行按压、滑动等刺激，同时指导患者用力将舌向不同方向低压舌板，进行抗阻训练，帮助患者提高舌肌力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华文新魏"/>
              </a:rPr>
              <a:t>基础训练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坐位训练以预防直立性低血压，每日逐渐抬高床头直到能独立坐起，每日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~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小时，为进食训练打下良好的基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屏气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-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发声训练   患者坐在椅子上，双手支撑椅面，做推压运动和屏气。此时胸廓固定、声门紧闭；然后，突然松手，声门大开，呼气发声。此运动可以训练声门的闭锁功能、强化软腭的肌力，同时有助于去除残留在咽部侧隐窝的食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华文新魏"/>
              </a:rPr>
              <a:t>基础训练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吞咽反射刺激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咽部冷刺激用冷冻的大头棉签，轻轻刺激患者软腭、舌根及咽后壁，左右相同部位交替刺激，然后嘱患者做空吞咽动作。寒冷刺激可以提高软腭和咽部敏感度，强化吞咽反射，减少唾液腺的分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冰块刺激采用头部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0°~60°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前屈仰卧体位，先用较小的冰块刺激口腔两侧黏膜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—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舌根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—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咽部，然后咽下冰块，每日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次，逐渐增加至每日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~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次。通过以上方法训练后患者若出现吞咽功能，即可开始进食训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华文新魏"/>
              </a:rPr>
              <a:t>基础训练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6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呼吸训练  采用腹式呼吸、缩唇呼吸训练，自己调节呼吸节奏，延长呼气时间，使呼吸平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7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咳嗽训练  通过强化训练有效咳嗽，提高呼吸系统的反应性，促进咽喉部闭锁的效果，达到排出分泌物、预防误吸的目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华文新魏"/>
              </a:rPr>
              <a:t>基础训练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612720" y="1270080"/>
            <a:ext cx="80834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8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吞咽手法的应用根据病情，进食中选用合适的手法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声门上吞咽法：在吞咽前或吞咽时关闭真声带处的呼吸道（吸气</a:t>
            </a: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-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闭气</a:t>
            </a: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-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吞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超声门上吞咽法：在吞咽前或吞咽时用力后送舌和关闭呼吸道入口并用力咽下食物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用力吞咽法：在咽部吞咽时增加舌根部后送的力量，清除会厌软骨的食团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门德尔松手法：患者喉部可上抬时，指导患者做空吞咽动作，并使喉部保持在上抬的位置，此手法增强喉部上抬的幅度和时间，而延长环咽肌开放时间，改善吞咽的协调度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华文新魏"/>
              </a:rPr>
              <a:t>基础训练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华文新魏"/>
              </a:rPr>
              <a:t>摄食训练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进食体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坐位：躯干直立，稍向前倾约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0°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，患侧手放于桌上，颈部稍向前弯曲，使舌骨肌的张力增高，喉上抬，使食物容易进入食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半坐位：躯干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0°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～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60°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卧位，头部前屈，偏瘫侧肩部以枕垫起，喂食者位于患者健侧。此时进行训练，食物不易从口中漏出，利于食物向舌根运送，还可以减少鼻腔逆流及误咽的危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华文新魏"/>
              </a:rPr>
              <a:t>摄食训练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食物的形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容易吞咽的食物特点：密度均匀、黏性适当、不易松散、通过咽和食道时易变形且很少在黏膜上残留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稠的食物比稀的安全，因为它能较满意地刺激触、压觉和唾液分泌，使吞咽变得容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兼顾食物的色、香、味及温度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以偏凉食物为宜，冷刺激能有效强化吞咽反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华文新魏"/>
              </a:rPr>
              <a:t>摄食训练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食具选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勺底浅、容量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～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0ml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的长柄匙适合舌的后送食物的困难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杯子上缘有一缺口的“斜口杯”，只需抬高杯子喝完杯内水，避免呛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华文新魏"/>
              </a:rPr>
              <a:t>摄食训练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食物在口中位置食物放在健侧舌后部或健侧颊部，有利于食物的吞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一口量进食的一口量和控制速度的一口量。正常人约为 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0ml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先以少量试之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(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～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ml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，酌情增加，如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ml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、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ml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、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0ml……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可结合声门上吞咽。此方法防止吞咽时食物误吸入气管，吞咽后咳嗽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, 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可除去残留在咽喉部的食物残渣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华文新魏"/>
              </a:rPr>
              <a:t>摄食训练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588160" cy="436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6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代偿性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空吞咽：每次进食吞咽后，反复做几次空吞咽（至少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: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，使食团全部咽下，再进食。可除去残留食物防止误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交替吞咽：每次进食吞咽后饮极少量的水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～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ml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，既有利于刺激诱发吞咽反射，又能达到除去咽部残留食物的目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侧方吞咽：让患者分别左、右侧转头，作侧方吞咽，可除去梨状隐窝部的残留食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626920" y="1942920"/>
            <a:ext cx="4248360" cy="46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概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吞咽训练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280"/>
            <a:chOff x="1819440" y="2219400"/>
            <a:chExt cx="688320" cy="59328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12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000"/>
            </a:xfrm>
            <a:prstGeom prst="hexagon">
              <a:avLst>
                <a:gd name="adj" fmla="val 29246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华文新魏"/>
              </a:rPr>
              <a:t>摄食训练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6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代偿性训练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用力吞咽：指导患者将舌用力向后移动，帮助食物推进通过咽腔，以增大口腔吞咽压，减少食物残留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点头样吞咽：颈部尽量前屈形状似点头，同时作空吞咽动作，可去除会厌谷残留食物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6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低头吞咽：颈部尽量前屈姿势吞咽，使会厌谷的空间扩大，并让会厌向后移位，避免食物溢漏入喉前庭，更有利于保护气道，收窄气管入口，咽后壁后移，使食物尽量离开气管入口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灯片编号占位符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D0983-F388-4A96-A59D-56750BF5EEA3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785520" y="2000160"/>
            <a:ext cx="7746840" cy="432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399"/>
              </a:lnSpc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吞咽障碍的定义、分类、目的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399"/>
              </a:lnSpc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吞咽障碍的评定方法、训练原则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399"/>
              </a:lnSpc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吞咽训练的方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399"/>
              </a:lnSpc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29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29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0" name="Rectangle 4"/>
          <p:cNvSpPr/>
          <p:nvPr/>
        </p:nvSpPr>
        <p:spPr>
          <a:xfrm>
            <a:off x="838080" y="304920"/>
            <a:ext cx="80550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华文新魏"/>
              </a:rPr>
              <a:t>课程总结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患者，男性，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7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岁，哮喘多年，现合并慢阻肺，肺功能重度阻塞性通气功能障碍，急性发作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天。入院查体：喘息貌，桶状胸，双肺满布哮鸣音，心率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94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次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/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分，心律不齐，闻及频发早搏，血压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155/85 mmHg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，双下肢不肿。入院后给予低流量吸氧，白细胞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c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反应蛋白等炎症指标不高，血气二氧化碳正常，左氧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0.6 qd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，可必特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+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普米克雾化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q8h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，甲强龙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40mg q8h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，每天半支茶碱静滴，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周后症状明显缓解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试分析：该患者怎样进行评估？应采取哪些康复护理措施？怎样指导进行日常生活指导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80880" y="35532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案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D524B-D6FB-4870-9256-4811204B065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684360" y="1990800"/>
            <a:ext cx="8064360" cy="37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ct val="150000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识记：陈述吞咽障碍的定义、训练目的及原则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ct val="150000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理解：归纳摄食训练的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ct val="150000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运用：能够针对临床常见吞咽障碍采取不同的吞咽训练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32B3C-868F-4480-9B66-F5AA6376974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2771640" y="2421000"/>
            <a:ext cx="302436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宋体"/>
                <a:ea typeface="宋体"/>
              </a:rPr>
              <a:t>一、概   述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B855A-4EB7-4D2C-AF55-518473B3DC61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571680" y="1856880"/>
            <a:ext cx="7480080" cy="30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指由于下颌、双唇、舌、软腭、咽喉、食管括约肌或食管的结构和（或）功能受损，不能安全有效地把食物正常送到胃内的一个过程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7629480" y="333360"/>
            <a:ext cx="96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定  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53312-549C-4109-9BE9-A362D7D03273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1044720" y="1917720"/>
            <a:ext cx="7480080" cy="30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ts val="4062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增强用口进食的能力及安全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ts val="4062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减少鼻饲机会，增强营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ts val="4062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.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减少吸入性肺炎的发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ts val="4062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.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增加进食乐趣，增强康复信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ts val="4062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.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改善摄食吞咽功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7637040" y="33336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目的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76720" y="333000"/>
            <a:ext cx="1677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训练原则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6920" y="1341000"/>
            <a:ext cx="72932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ts val="4062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综合评估确定患者的吞咽障碍程度和吞咽障碍类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ts val="4062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个体化针对不同的患者，采取不同的吞咽训练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ts val="4062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循序渐进根据患者的功能障碍情况进行训练和治疗，逐渐增加进食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ts val="4062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治疗和训练相结合在训练的基础上，通过合理的刺激，促进吞咽障碍的功能恢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7494C-C713-4D39-8583-FBB6C035528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Rectangle 4"/>
          <p:cNvSpPr/>
          <p:nvPr/>
        </p:nvSpPr>
        <p:spPr>
          <a:xfrm>
            <a:off x="2268360" y="2060640"/>
            <a:ext cx="4248360" cy="28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宋体"/>
                <a:ea typeface="华文新魏"/>
              </a:rPr>
              <a:t>二、训练方法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</a:t>
            </a:r>
            <a:r>
              <a:rPr b="1" lang="zh-CN" sz="36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3600" spc="-1" strike="noStrike">
                <a:solidFill>
                  <a:srgbClr val="1d1496"/>
                </a:solidFill>
                <a:latin typeface="华文新魏"/>
                <a:ea typeface="华文新魏"/>
              </a:rPr>
              <a:t>、基础训练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</a:t>
            </a:r>
            <a:r>
              <a:rPr b="1" lang="zh-CN" sz="36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1d1496"/>
                </a:solidFill>
                <a:latin typeface="华文新魏"/>
                <a:ea typeface="华文新魏"/>
              </a:rPr>
              <a:t>、摄食训练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华文新魏"/>
              </a:rPr>
              <a:t>基础训练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062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局部肌肉运动控制训练   指导患者进行微笑、皱眉、鼓腮、张口、闭口、伸舌训练和双侧面部按摩，改善口、面、舌下颌的运动功能，促进主动收缩功能恢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赵欣</cp:lastModifiedBy>
  <dcterms:modified xsi:type="dcterms:W3CDTF">2015-12-15T08:36:16Z</dcterms:modified>
  <cp:revision>1</cp:revision>
  <dc:subject/>
  <dc:title>  第五章  康复护理技术</dc:title>
</cp:coreProperties>
</file>